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49C-6A89-4BD2-A0BF-B46E36CF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238-F40D-4D67-90FE-ECE1342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440-01AD-4C69-BDA7-34BA5322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EC1-065D-4A4A-A50A-2165206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58B-3533-4C5D-865F-000E40EC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3724-BEDA-4EA0-AE19-74C752A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392-304F-4E3B-9CC7-7FD82803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C58-8A5C-40EA-AEC3-A7689D0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3D62-4CCF-479D-9714-07E2427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064-8123-42D8-A246-16639D1A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DDB-BA27-4EBE-A622-7C93683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F3C-9238-4F7C-9362-9935E5CA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040-E303-4D8D-A443-71FFA53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D5C3-075A-46A6-B8B4-F2F3103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ECCC-C200-4250-A6D6-9E6FA8F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52B3-14CB-45DF-BD27-36719D47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1DB-26F2-4C2C-8F34-08A651F7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626D-520B-44A8-BF4F-E0B19165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DF4E-3EFA-413F-8B27-6F8BCE25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268E-8410-408E-B1D5-B36E0DE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E08D-8555-4002-A49E-A9D0898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730F-6560-47FC-9126-AB7BD80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802-51AF-4435-919E-6F139E43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0F34-8C76-4752-80EE-9705F4C5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5B77-DDB2-451E-B421-F08C663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944E-EEFE-43F9-9C94-4670FC6A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A60B-9824-4E2E-BE62-C14E020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AD96-3029-45D5-84F3-B2A75E1B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A1E4-5A10-4236-99A3-43ABB5C0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B886-F049-4C1E-9BE1-2A0471D7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AFE3-FDF3-41E1-9DBD-1D320DA8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672D-AF60-4B3C-9F3A-5DCC8C6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AD45-B364-4EA0-8224-570A5596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506-6BF1-4346-91FA-0FD1DD9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5E64-165B-4E8B-85A7-7EEEF1A3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EC8A-C168-47B8-A184-575F722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9E62-EBF4-4252-9AC7-36D483A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254F-C77E-4F5D-9EDE-430795B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32CD-FEFD-4CED-A7CB-601B79A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647E-41E2-4E98-97E6-E7F8409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D0D1-B7B2-4643-A817-E212D19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45C8-AD5C-4FB3-908B-498AA8F3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CB04-30BD-4612-878C-753F727C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88DF-41D9-4694-9172-C8CF83E2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302-5456-457F-B01A-66943C10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A58C-6E50-4907-9630-822FDCC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C272-6113-48B1-A192-C5A4B49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9750-3E4E-4080-8F43-FFCAF34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8D0C-96C8-41B6-BB78-A79C3B4D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2151-EF6B-4E44-BE25-D6059BB3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1AD0-FB94-418D-B5D7-754AF9D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4231-3220-4536-9087-1F75459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EC65-8015-40CC-B924-87C423D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BC50-D4BC-4DD9-B509-5EBCB3B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C348-B1E7-4C44-9A87-6EBFB166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A3F-86E5-4D8E-8CA6-94712F6A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2A9A-5941-4EB2-AF82-C52EF052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A1A-4A18-47BC-9BD6-D1D229E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7C2-222D-4F15-B44D-F1BF58C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CC6-CA36-430B-9CD7-526C530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1816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7600" y="7286400"/>
            <a:ext cx="406404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45480" y="7284960"/>
            <a:ext cx="65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C1A-59FB-4D49-A271-04F6646BD2B3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955960" y="-6480"/>
            <a:ext cx="7211880" cy="7632720"/>
            <a:chOff x="2955960" y="-6480"/>
            <a:chExt cx="7211880" cy="763272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955960" y="-6480"/>
              <a:ext cx="721188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963880" y="0"/>
              <a:ext cx="719604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963880" y="-360"/>
            <a:ext cx="0" cy="762012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23200" y="7286400"/>
            <a:ext cx="222552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32000" y="7286400"/>
            <a:ext cx="325296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56280" y="7284960"/>
            <a:ext cx="654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A73-35A0-4AE4-B979-6D470A284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49880" y="72846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928880" y="7284960"/>
            <a:ext cx="3216240" cy="25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481520" y="7283160"/>
            <a:ext cx="6541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43F-EB3D-4B03-8886-BA2A9D7C0E21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665280" y="1115640"/>
            <a:ext cx="4798800" cy="47926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663480" y="1109520"/>
            <a:ext cx="4799160" cy="47926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71816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07600" y="7286400"/>
            <a:ext cx="406404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45480" y="7284960"/>
            <a:ext cx="65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E215-681A-4541-A49F-1E3119869F2D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71492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07600" y="7284960"/>
            <a:ext cx="4064040" cy="25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950160" y="7281720"/>
            <a:ext cx="652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C37D-729D-4422-90C5-D2E44473B9DF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1" descr=""/>
          <p:cNvPicPr/>
          <p:nvPr/>
        </p:nvPicPr>
        <p:blipFill>
          <a:blip r:embed="rId1"/>
          <a:stretch/>
        </p:blipFill>
        <p:spPr>
          <a:xfrm>
            <a:off x="950760" y="1139760"/>
            <a:ext cx="8912520" cy="1506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241880" y="3809880"/>
            <a:ext cx="48067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 causes canc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mart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Star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53000" y="6996240"/>
            <a:ext cx="6406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sey L, Courtni C, Amy Y, Neel 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47320" y="1828800"/>
            <a:ext cx="8566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2007 (the most recent number available), 158,683 people in the US died from lung cancer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6" name="Picture 5" descr="http://www.cdc.gov/nchs/images/atlas/lcwm.gif"/>
          <p:cNvPicPr/>
          <p:nvPr/>
        </p:nvPicPr>
        <p:blipFill>
          <a:blip r:embed="rId2"/>
          <a:stretch/>
        </p:blipFill>
        <p:spPr>
          <a:xfrm>
            <a:off x="1270080" y="2819520"/>
            <a:ext cx="6629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47680" y="1828800"/>
            <a:ext cx="8642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400,000 lung cancer survivors live in the US, but still, fewer lung cancer survive then prostate and breast cancer patients.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9" name="Picture 5" descr="http://www.glogster.com/media/5/32/92/48/32924861.gif"/>
          <p:cNvPicPr/>
          <p:nvPr/>
        </p:nvPicPr>
        <p:blipFill>
          <a:blip r:embed="rId2"/>
          <a:stretch/>
        </p:blipFill>
        <p:spPr>
          <a:xfrm>
            <a:off x="5460840" y="4038480"/>
            <a:ext cx="342900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79360" y="914400"/>
            <a:ext cx="8763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onson, Mary H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encoe Health, Student 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.l.: McGraw Hill/Glencoe, 2009. Pri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Chemistry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n.p., n.d. Web. 31 Aug. 2011. &lt;http://www.chemistry-dictionary.com/definition/lung+cancer.php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dridge, Lynne. “Early Symptoms of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ung Canc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About.com, 2 Jan. 2010. Web. 31 Aug. 2011. &lt;http://lungcancer.about.com/od/whatis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ncer/a/earlysymptoms.htm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icson, Kirk. “Emotional Effects Of Lung Cancer | LIVESTRONG.COM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RONG.CO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Livestrong, 18 Apr. 2010. Web. 2 Sept. 2011. &lt;http://www.livestrong.com/article/108201-emotional-effects-lung-cancer/#ixzz1WoRBP8Tu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cts about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nnie J. Addario Lung Cancer Found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The Bonnie J. Addario Lung Cancer Foundation, n.d. Web. 2 Sept. 2011. &lt;http://www.lungcancerfoundation.org/about-lung-cancer/fact-sheets/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affects family and friends -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talkonline, an award-winning charity website, lets you share in patients, family and professional experiences of health and illness. : Healthtalkonli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DIPEx, n.d. Web. 2 Sept. 2011. &lt;http://www.healthtalkonline.org/cancer/Lung_Cancer/Topic/1598/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xford University Press. “A Short History of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oxicological Sc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Society of Toxicology, n.d. Web. 31 Aug. 2011. &lt;http://toxsci.oxfordjourn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/content/64/1/4.full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chneider, Bryan J. “Management of Recurrent Small Cell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ournal of the National Comprehensive Cancer Network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National Comprehensive Cancer Network , 24 Sept. 2007. Web. 2 Sept. 2011. &lt;http://www.jnccn.org/content/6/3/323.abstract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an, Winston W. “Medscape: Medscape Access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dscape: Medscape Ac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WebMD LLC, 30 Aug. 2011. Web. 2 Sept. 2011. &lt;http://emedicine.medscape.com/article/279960-treatment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lethal type of tumor worldwide 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s up to 3 million deaths worldwide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ding cause of deaths in the US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47320" y="1828800"/>
            <a:ext cx="9023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ung cancer occurrences increased throughout the 1900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air pollution from: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al gasses and dus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phalting of roa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bile traffic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xposure to gas in WWI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7" name="Picture 5" descr="http://apworldhistorywiki.wikispaces.com/file/view/industrial-revolution.jpg/124671609/industrial-revolution.jpg"/>
          <p:cNvPicPr/>
          <p:nvPr/>
        </p:nvPicPr>
        <p:blipFill>
          <a:blip r:embed="rId2"/>
          <a:stretch/>
        </p:blipFill>
        <p:spPr>
          <a:xfrm>
            <a:off x="5232240" y="5029200"/>
            <a:ext cx="3432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http://www.beltina.org/pics/lung_cancer.jpg"/>
          <p:cNvPicPr/>
          <p:nvPr/>
        </p:nvPicPr>
        <p:blipFill>
          <a:blip r:embed="rId1"/>
          <a:stretch/>
        </p:blipFill>
        <p:spPr>
          <a:xfrm>
            <a:off x="4165560" y="3703680"/>
            <a:ext cx="4800600" cy="384012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1" descr=""/>
          <p:cNvPicPr/>
          <p:nvPr/>
        </p:nvPicPr>
        <p:blipFill>
          <a:blip r:embed="rId2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hereditary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: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garette or secondhand smok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ghing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ezing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ghing up blood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arsenes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not immedi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55680" y="1165320"/>
            <a:ext cx="9494640" cy="59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http://www.spcancerologia.org/wp-content/uploads/2011/01/Cancer-Treatment.jpg"/>
          <p:cNvPicPr/>
          <p:nvPr/>
        </p:nvPicPr>
        <p:blipFill>
          <a:blip r:embed="rId2"/>
          <a:stretch/>
        </p:blipFill>
        <p:spPr>
          <a:xfrm>
            <a:off x="4622760" y="32767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47320" y="1661760"/>
            <a:ext cx="8489880" cy="61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ck and denial are frequently the first emotional responses after learning you have cancer.”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American Cancer Socie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s hesitant to tell family and frien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milies and friends might not know how to react at first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http://pittsburghgives.org/files/2010/06/American-Cancer-Society.jpg"/>
          <p:cNvPicPr/>
          <p:nvPr/>
        </p:nvPicPr>
        <p:blipFill>
          <a:blip r:embed="rId2"/>
          <a:stretch/>
        </p:blipFill>
        <p:spPr>
          <a:xfrm>
            <a:off x="838080" y="3335400"/>
            <a:ext cx="29466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nagement and Impac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47680" y="1832040"/>
            <a:ext cx="87948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-Term Management: tumor reduction or single agent chem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-Term Management: most cannot be cured by currently available therap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47320" y="1828800"/>
            <a:ext cx="8413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 to 30% of all cancer deaths are caused by lung cancer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5" descr="http://www.smokinglung.org/wp-content/uploads/2010/10/Lung-Cancer.jpg"/>
          <p:cNvPicPr/>
          <p:nvPr/>
        </p:nvPicPr>
        <p:blipFill>
          <a:blip r:embed="rId2"/>
          <a:stretch/>
        </p:blipFill>
        <p:spPr>
          <a:xfrm>
            <a:off x="5232240" y="3200400"/>
            <a:ext cx="32245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114536</cp:lastModifiedBy>
  <dcterms:modified xsi:type="dcterms:W3CDTF">2011-09-02T17:28:07Z</dcterms:modified>
  <cp:revision>7</cp:revision>
  <dc:subject/>
  <dc:title>PowerPoint Presentation</dc:title>
</cp:coreProperties>
</file>